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391-337D-437D-8CCD-240C3E1F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0B3-3A02-4265-8B39-276F2C6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874-DB68-4C92-AD98-8585D77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285-8173-4A2F-A390-CC5078A6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164-2AA2-448F-AF2E-6C50222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195-F357-4FD1-BC98-EC7D83A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50B-864B-434B-B3ED-CD74467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442-C7F1-46E8-A9F5-AAFBDA5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DEF-194C-4BC5-B748-CB55568B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2CB-8A91-40FC-918D-CC0A0C0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2B7-7A52-47C5-8D6B-74324D1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47F-EE9D-4F43-9468-3794090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540-0BCD-4CE7-A2DB-FEDAAA619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DL_0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0666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479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819520" y="1447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720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495680" y="34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1371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143000" y="137160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447920" y="3657600"/>
            <a:ext cx="99036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828800" y="426708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971800" y="1371600"/>
            <a:ext cx="1371600" cy="4038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248520" y="1295280"/>
            <a:ext cx="167616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648320" y="1447920"/>
            <a:ext cx="1447560" cy="1676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648320" y="3505320"/>
            <a:ext cx="1447560" cy="1904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21:00Z</dcterms:created>
  <dc:creator>Mandy</dc:creator>
  <dc:description/>
  <dc:language>en-US</dc:language>
  <cp:lastModifiedBy>Mandy</cp:lastModifiedBy>
  <dcterms:modified xsi:type="dcterms:W3CDTF">2009-08-27T23:28:15Z</dcterms:modified>
  <cp:revision>1</cp:revision>
  <dc:subject/>
  <dc:title>Slide 1</dc:title>
</cp:coreProperties>
</file>