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7922-A087-47CF-ABB9-38E9FB91C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B1C9-9FE6-4574-BAA2-ED06C2990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EF44-B31C-4DD2-8AB0-9871C889F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29CA-7D4B-4876-BBA4-9C8EC888B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1D5F-6325-44D0-B7FB-B4A692CED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7E01-2465-4CE3-9B7E-8F48283AD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42B3-A59A-453E-B22E-48355462D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2E45-D929-43A8-83F8-AC0AEB0AC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52B9-4A40-4B53-BCD2-85CFA18B6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FF61-7044-4052-9C60-87930DC8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5C09-25F2-4AD8-A3FF-6F101375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8D4C-3A12-4004-A309-9BC5AEFC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34834-EA68-4285-AB1C-6DE81C31FD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DL_07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838080" y="13716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ssil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1066680" y="36576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ssil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1447920" y="48769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ssil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2819520" y="14479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ssil 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8"/>
          <p:cNvSpPr/>
          <p:nvPr/>
        </p:nvSpPr>
        <p:spPr>
          <a:xfrm>
            <a:off x="4572000" y="14479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ssil 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9"/>
          <p:cNvSpPr/>
          <p:nvPr/>
        </p:nvSpPr>
        <p:spPr>
          <a:xfrm>
            <a:off x="4495680" y="34290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ssil 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10"/>
          <p:cNvSpPr/>
          <p:nvPr/>
        </p:nvSpPr>
        <p:spPr>
          <a:xfrm>
            <a:off x="6248520" y="137160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ssil 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1143000" y="1371600"/>
            <a:ext cx="990720" cy="9907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1447920" y="3657600"/>
            <a:ext cx="990360" cy="9907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13"/>
          <p:cNvSpPr/>
          <p:nvPr/>
        </p:nvSpPr>
        <p:spPr>
          <a:xfrm>
            <a:off x="1828800" y="4267080"/>
            <a:ext cx="990720" cy="9907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14"/>
          <p:cNvSpPr/>
          <p:nvPr/>
        </p:nvSpPr>
        <p:spPr>
          <a:xfrm>
            <a:off x="2971800" y="1371600"/>
            <a:ext cx="1371600" cy="40384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5"/>
          <p:cNvSpPr/>
          <p:nvPr/>
        </p:nvSpPr>
        <p:spPr>
          <a:xfrm>
            <a:off x="6248520" y="1295280"/>
            <a:ext cx="1676160" cy="41911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16"/>
          <p:cNvSpPr/>
          <p:nvPr/>
        </p:nvSpPr>
        <p:spPr>
          <a:xfrm>
            <a:off x="4648320" y="1447920"/>
            <a:ext cx="1447560" cy="16761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17"/>
          <p:cNvSpPr/>
          <p:nvPr/>
        </p:nvSpPr>
        <p:spPr>
          <a:xfrm>
            <a:off x="4648320" y="3505320"/>
            <a:ext cx="1447560" cy="19047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23:21:00Z</dcterms:created>
  <dc:creator>Mandy</dc:creator>
  <dc:description/>
  <dc:language>en-US</dc:language>
  <cp:lastModifiedBy>Mandy</cp:lastModifiedBy>
  <dcterms:modified xsi:type="dcterms:W3CDTF">2009-08-27T23:28:15Z</dcterms:modified>
  <cp:revision>1</cp:revision>
  <dc:subject/>
  <dc:title>Slide 1</dc:title>
</cp:coreProperties>
</file>