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380-483B-4A1A-BD21-C1025F8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452-4778-416E-9860-E7C280C4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8F6-6EA2-474D-B13D-9A8123DE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EBE-5CF7-4779-BCF3-F0112C06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3FE-900B-4E98-B568-C525FB3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2A7-976F-4069-BB22-BB849A51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360-4D06-4217-BD48-00A7A446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B28-BD2C-4EF2-A398-32F08300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85D-31CD-4F5D-A36A-9D3539FE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003-1FE3-4246-8444-D4056BB9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F47-4F04-4C04-B978-CB5D0FC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E0E-8002-496D-BCD8-CFCC1862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ECDF-4298-49BC-B96B-4A1F1F116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DL_07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380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0666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4479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819520" y="1447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57200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4495680" y="3429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6248520" y="13716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ssil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143000" y="1371600"/>
            <a:ext cx="99072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447920" y="3657600"/>
            <a:ext cx="99036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828800" y="4267080"/>
            <a:ext cx="99072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971800" y="1371600"/>
            <a:ext cx="1371600" cy="4038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248520" y="1295280"/>
            <a:ext cx="1676160" cy="4191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4648320" y="1447920"/>
            <a:ext cx="1447560" cy="1676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648320" y="3505320"/>
            <a:ext cx="1447560" cy="1904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23:21:00Z</dcterms:created>
  <dc:creator>Mandy</dc:creator>
  <dc:description/>
  <dc:language>en-US</dc:language>
  <cp:lastModifiedBy>Mandy</cp:lastModifiedBy>
  <dcterms:modified xsi:type="dcterms:W3CDTF">2009-08-27T23:28:15Z</dcterms:modified>
  <cp:revision>1</cp:revision>
  <dc:subject/>
  <dc:title>Slide 1</dc:title>
</cp:coreProperties>
</file>