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EB1-641E-45E2-9DFA-05EC59A9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2B6-A4C2-4E23-9610-741DBC72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06D-9112-4A26-890D-2A2ACE96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8CE-34F1-41FF-A852-B1EAA52F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8A2-8AD7-490F-9E39-54610FE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097-14E1-4218-B8B3-AD74BB5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A6D-D87F-4FED-A003-1363EF3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DEE-F2E0-4080-A6CA-922F197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D17-3C53-4973-96B8-CFAF0F4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2D2-F251-4C1D-B0A6-62694CA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912-D7A6-4D54-A459-08FC879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A10-BCB3-4B22-8189-84A3426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11B-671C-422D-B217-876BD1D2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DL_0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0666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479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819520" y="1447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720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495680" y="34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1371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143000" y="137160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447920" y="3657600"/>
            <a:ext cx="99036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828800" y="426708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971800" y="1371600"/>
            <a:ext cx="1371600" cy="4038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248520" y="1295280"/>
            <a:ext cx="167616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648320" y="1447920"/>
            <a:ext cx="1447560" cy="1676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648320" y="3505320"/>
            <a:ext cx="1447560" cy="1904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21:00Z</dcterms:created>
  <dc:creator>Mandy</dc:creator>
  <dc:description/>
  <dc:language>en-US</dc:language>
  <cp:lastModifiedBy>Mandy</cp:lastModifiedBy>
  <dcterms:modified xsi:type="dcterms:W3CDTF">2009-08-27T23:28:15Z</dcterms:modified>
  <cp:revision>1</cp:revision>
  <dc:subject/>
  <dc:title>Slide 1</dc:title>
</cp:coreProperties>
</file>